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941-D629-4ED0-8808-EAAB47AF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94D-3E92-4535-B306-302C6692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A82-01F1-4A3C-8B0F-6DE379C1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872-0FC7-4CEA-94D7-716F2EC3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79B-87D4-4108-9A51-9DEC017E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209-E205-41FF-A554-822131EB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270-3956-40A7-95F3-675674A3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AFA-D9D9-4704-B2F1-DF0B8F15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B62-4C82-48C4-BDA6-1E14A68E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7A5-CC55-4F87-959C-973C073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F77-54E7-4D9D-AA77-E895878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55B-8B24-4126-81BB-0604E0E7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009-7982-4110-A522-A569572B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Coastal bliss at Cabo San Juan, Parque Nacional Tayro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9907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5760" y="1764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oudy Stout"/>
              </a:rPr>
              <a:t>Mis Vacaciones De Verano En Colomb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El Primero D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Hoy hace mucho calor ! El sol brilla en el cielo. No hace frio. Fui  a la playa hoy, y nade en el mar.  El aqua estaba fria. Fui a comer en un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restaurante muy grande. Yo fui con mis amig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Coastal bliss at Cabo San Juan, Parque Nacional Tayrona"/>
          <p:cNvPicPr/>
          <p:nvPr/>
        </p:nvPicPr>
        <p:blipFill>
          <a:blip r:embed="rId2"/>
          <a:stretch/>
        </p:blipFill>
        <p:spPr>
          <a:xfrm>
            <a:off x="4495680" y="1523880"/>
            <a:ext cx="44197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Forte"/>
              </a:rPr>
              <a:t>Dia Do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Forte"/>
              </a:rPr>
              <a:t>Hoy hace fresco, no hay mucho calor pero no hace frio. Fuimos a jugar tenis en la playa, y ganamos ! Jugamos con la familia Lima. Golpee la pelota por encima de la 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419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Forte"/>
              </a:rPr>
              <a:t>Dia T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66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Forte"/>
              </a:rPr>
              <a:t>Hoy fui a la teinda de ropa, y compre un traje de baño. Después yo fui  a bucear en el mar.  Mire los peces. Hoy hace mucho calor, no hace fresc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247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40384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Bradley Hand ITC"/>
              </a:rPr>
              <a:t>Dia cuatr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Bradley Hand ITC"/>
              </a:rPr>
              <a:t>Hoy hace fresco y el sol no brilla , pero no hace frio.  Hoy fuiamos a la piscina en el hotel. Y jugamos tenis en la cancha de tenis. jugamos do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3962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6:36Z</dcterms:created>
  <dc:creator>leaolum</dc:creator>
  <dc:description/>
  <dc:language>en-US</dc:language>
  <cp:lastModifiedBy>leaolum</cp:lastModifiedBy>
  <dcterms:modified xsi:type="dcterms:W3CDTF">2011-11-29T15:13:52Z</dcterms:modified>
  <cp:revision>4</cp:revision>
  <dc:subject/>
  <dc:title>mis vacaciones de verano!</dc:title>
</cp:coreProperties>
</file>